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316-A2B7-48AB-9DC0-4F75D51B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BA1-AC7D-4422-9F31-6652836B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1E4-177F-4DAE-977D-462A182A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ACE-79B6-4E04-AFB8-47F4E0C7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DC3-EC13-42F0-A675-119F7F76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A8B-C213-4F99-9341-12102F30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B71-E091-45C5-B4F6-59EE4DEB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C49-C830-4F39-8C04-B58A43DA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33D-49E3-4CEB-8715-FD34BF1A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F96-9014-4EE3-9C70-8E164629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34A-8B6C-479E-87E4-DA20EB4B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6A7-B6D2-427E-A407-794B75D0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201D-7AFE-4474-A7DC-16DB67F78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125360"/>
            <a:ext cx="77025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Алгоритми проведення і опрацювання результатів різних видів контролю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навчальної діяльності студентів ВНЗ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1280" y="3465000"/>
            <a:ext cx="60501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еценко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Інна Вячеславі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84160" y="4268880"/>
            <a:ext cx="78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каський державний технологічн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84160" y="4743360"/>
            <a:ext cx="784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v66@yandex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9640" y="3033360"/>
            <a:ext cx="795672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іодичність контро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устиму кількість пропусків для допуску до захисту ЛР та контрольно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устима кількість успішного контролю відвідування для допуску до екзаме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устимий рівень складності дисциплі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також кількість модулів, обсяг годин у модулі, середній час, що витрачається на захист ЛР(контрольної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358920" y="368280"/>
            <a:ext cx="82803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шук оптимальних параметрів системи контролю та оцінювання навчальної діяль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4614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дисципліна зарахована, у відношенні до загальної кількості студен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студентів, яким дисципліна не зарахована, у відношенні до загальної кількості студент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рекомендоване повторне навчання, у відношенні до загальної кількості студентів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чення допустимої кількості пропусків у відношенні до загальної кількості пропусків (= 0,6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є завантаження декана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екзаме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модульної контрольно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модул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лабораторної робо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лабораторних робі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допусків з причини невідвідуван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складених іспит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слідження оптимального значення допустимої кількості пропус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3280" y="2060640"/>
                <a:ext cx="82818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31640" y="1592280"/>
            <a:ext cx="576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итерій вибору оптимального зна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3794040"/>
          <a:ext cx="3313080" cy="2333880"/>
        </p:xfrm>
        <a:graphic>
          <a:graphicData uri="http://schemas.openxmlformats.org/drawingml/2006/table">
            <a:tbl>
              <a:tblPr/>
              <a:tblGrid>
                <a:gridCol w="1952640"/>
                <a:gridCol w="1360440"/>
              </a:tblGrid>
              <a:tr h="714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а кількість пропусків у відсотках до загальної кількост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ня якості навч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1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0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16000" y="1015920"/>
          <a:ext cx="3276360" cy="2521080"/>
        </p:xfrm>
        <a:graphic>
          <a:graphicData uri="http://schemas.openxmlformats.org/drawingml/2006/table">
            <a:tbl>
              <a:tblPr/>
              <a:tblGrid>
                <a:gridCol w="1860480"/>
                <a:gridCol w="141588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а кількість пропусків у відсотках до загальної кількост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ій вибору параметрі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1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780000" y="1052640"/>
          <a:ext cx="5076720" cy="246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052640"/>
                    <a:ext cx="507672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43280" y="3681360"/>
          <a:ext cx="5133960" cy="246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3280" y="3681360"/>
                    <a:ext cx="513396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192720" y="1521000"/>
            <a:ext cx="179640" cy="222120"/>
          </a:xfrm>
          <a:custGeom>
            <a:avLst/>
            <a:gdLst/>
            <a:ahLst/>
            <a:rect l="l" t="t" r="r" b="b"/>
            <a:pathLst>
              <a:path w="113" h="140">
                <a:moveTo>
                  <a:pt x="0" y="23"/>
                </a:moveTo>
                <a:cubicBezTo>
                  <a:pt x="13" y="81"/>
                  <a:pt x="26" y="140"/>
                  <a:pt x="45" y="136"/>
                </a:cubicBezTo>
                <a:cubicBezTo>
                  <a:pt x="64" y="132"/>
                  <a:pt x="98" y="26"/>
                  <a:pt x="113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457200" y="274680"/>
            <a:ext cx="8229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тимальне значення допустимої кількості пропусків складає 0,67 або 2/3 від загальної кількості пропус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8920" y="270828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дисципліна зарахована, у відношенні до загальної кількості студен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студентів, яким дисципліна не зарахована, у відношенні до загальної кількості студент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рекомендоване повторне навчання, у відношенні до загальної кількості студентів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чення допустимої кількості пропусків у відношенні до загальної кількості пропусків (= 0,6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є завантаження декана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екзаме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модульної контрольно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модул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лабораторної робо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лабораторних робі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допусків з причини невідвідуван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складених іспит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слідження оптимальної складності екзам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1592280"/>
            <a:ext cx="576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итерій вибору оптимального зна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76360" y="2060640"/>
                <a:ext cx="7993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95280" y="873000"/>
          <a:ext cx="3168720" cy="2327400"/>
        </p:xfrm>
        <a:graphic>
          <a:graphicData uri="http://schemas.openxmlformats.org/drawingml/2006/table">
            <a:tbl>
              <a:tblPr/>
              <a:tblGrid>
                <a:gridCol w="1552680"/>
                <a:gridCol w="161604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адність дисциплі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ня критері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51280" y="800280"/>
          <a:ext cx="5133960" cy="246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800280"/>
                    <a:ext cx="513396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68360" y="3573360"/>
          <a:ext cx="3132000" cy="2516040"/>
        </p:xfrm>
        <a:graphic>
          <a:graphicData uri="http://schemas.openxmlformats.org/drawingml/2006/table">
            <a:tbl>
              <a:tblPr/>
              <a:tblGrid>
                <a:gridCol w="1457280"/>
                <a:gridCol w="167472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адність дисциплі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ня якості нав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51280" y="3608280"/>
          <a:ext cx="5005440" cy="252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608280"/>
                    <a:ext cx="50054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580000" y="1160640"/>
            <a:ext cx="179280" cy="222120"/>
          </a:xfrm>
          <a:custGeom>
            <a:avLst/>
            <a:gdLst/>
            <a:ahLst/>
            <a:rect l="l" t="t" r="r" b="b"/>
            <a:pathLst>
              <a:path w="113" h="140">
                <a:moveTo>
                  <a:pt x="0" y="23"/>
                </a:moveTo>
                <a:cubicBezTo>
                  <a:pt x="13" y="81"/>
                  <a:pt x="26" y="140"/>
                  <a:pt x="45" y="136"/>
                </a:cubicBezTo>
                <a:cubicBezTo>
                  <a:pt x="64" y="132"/>
                  <a:pt x="98" y="26"/>
                  <a:pt x="113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57200" y="274680"/>
            <a:ext cx="8229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тимальне значення складності екзамену відповідає 0,8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при складності захисту модуля 0,7 і складності захисту ЛР 0,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58920" y="270792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дисципліна зарахована, у відношенні до загальної кількості студен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студентів, яким дисципліна не зарахована, у відношенні до загальної кількості студент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рекомендоване повторне навчання, у відношенні до загальної кількості студентів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чення допустимої кількості пропусків у відношенні до загальної кількості пропусків (= 0,6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є завантаження декана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допусків з причини невідвідуван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складених іспит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слідження оптимального обмеження на допуск до екзамену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кількості успішних контролів відвідуван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1640" y="1592280"/>
            <a:ext cx="576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итерій вибору оптимального зна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8360" y="2060640"/>
                <a:ext cx="81309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431640" y="115920"/>
            <a:ext cx="8229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тимальне значення обмеження на допуск до екзамену складає 1 успішний контроль відвідування (з трьох проведених у семестрі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360" y="1305000"/>
          <a:ext cx="2773080" cy="1754280"/>
        </p:xfrm>
        <a:graphic>
          <a:graphicData uri="http://schemas.openxmlformats.org/drawingml/2006/table">
            <a:tbl>
              <a:tblPr/>
              <a:tblGrid>
                <a:gridCol w="1290240"/>
                <a:gridCol w="1482840"/>
              </a:tblGrid>
              <a:tr h="52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меження на допус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тері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35280" y="981000"/>
          <a:ext cx="5133960" cy="23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981000"/>
                    <a:ext cx="513396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63640" y="3789360"/>
          <a:ext cx="2448000" cy="2052720"/>
        </p:xfrm>
        <a:graphic>
          <a:graphicData uri="http://schemas.openxmlformats.org/drawingml/2006/table">
            <a:tbl>
              <a:tblPr/>
              <a:tblGrid>
                <a:gridCol w="1260360"/>
                <a:gridCol w="1187640"/>
              </a:tblGrid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ження на допу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564000" y="3537000"/>
          <a:ext cx="5133960" cy="246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37000"/>
                    <a:ext cx="513396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86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б’єктно-орієнтована модель навчальн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2080" y="1553760"/>
            <a:ext cx="7900920" cy="4978440"/>
            <a:chOff x="442080" y="1553760"/>
            <a:chExt cx="7900920" cy="4978440"/>
          </a:xfrm>
        </p:grpSpPr>
        <p:sp>
          <p:nvSpPr>
            <p:cNvPr id="125" name=""/>
            <p:cNvSpPr/>
            <p:nvPr/>
          </p:nvSpPr>
          <p:spPr>
            <a:xfrm>
              <a:off x="2182680" y="1571760"/>
              <a:ext cx="86976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р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63280" y="1571760"/>
              <a:ext cx="183456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обочий пл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36680" y="4061160"/>
              <a:ext cx="1008000" cy="51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иклада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11760" y="2425320"/>
              <a:ext cx="117684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уде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50840" y="2407320"/>
              <a:ext cx="159948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исциплі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98480" y="3385080"/>
              <a:ext cx="12218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3000" y="3367080"/>
              <a:ext cx="122184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екан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51960" y="3989880"/>
              <a:ext cx="1268640" cy="69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боргованост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04960" y="1927440"/>
              <a:ext cx="7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79840" y="1927440"/>
              <a:ext cx="108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9080" y="2780280"/>
              <a:ext cx="58788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51960" y="2763360"/>
              <a:ext cx="1128240" cy="62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43880" y="1553760"/>
              <a:ext cx="141048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озкла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593160" y="3741120"/>
              <a:ext cx="1404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1440" y="3741120"/>
              <a:ext cx="28188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080" y="5447520"/>
              <a:ext cx="775944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Імітац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046280" y="2780280"/>
              <a:ext cx="216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46480" y="2797920"/>
              <a:ext cx="23400" cy="26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1560" y="4043520"/>
              <a:ext cx="1270080" cy="69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ідвідув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59400" y="3723120"/>
              <a:ext cx="0" cy="17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36600" y="2763360"/>
              <a:ext cx="1080" cy="266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449840" y="1927440"/>
              <a:ext cx="72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2840" y="6016680"/>
              <a:ext cx="7760160" cy="51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руктурно-логічна схема класів об’єктно-орієнтованої моделі навчального процес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47440" y="3918600"/>
              <a:ext cx="1171080" cy="11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значити поточний час семест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52240" y="5056920"/>
              <a:ext cx="72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43880" y="2407320"/>
              <a:ext cx="1412640" cy="49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ара за розклад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1400" y="4576680"/>
              <a:ext cx="0" cy="8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225360"/>
            <a:ext cx="2170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uk-UA" sz="1200" spc="-1" strike="noStrike" u="sng">
                <a:solidFill>
                  <a:srgbClr val="000000"/>
                </a:solidFill>
                <a:uFillTx/>
                <a:latin typeface="Arial"/>
              </a:rPr>
              <a:t>Студ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По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м’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ва групи, в якій навчає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мер за списком у груп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, витрачений на навч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точний 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Конструктор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устий студ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удент із заданим ім’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ім’я студ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назву групи, в якій навчає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номер за списком у журналі груп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своїти номер за списком у журналі груп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час навч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поточний 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більшити час навчання на задану вел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поточний стан на задане знач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назву групи, в якій навчає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08360" y="189000"/>
            <a:ext cx="33112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uk-UA" sz="1200" spc="-1" strike="noStrike" u="sng">
                <a:solidFill>
                  <a:srgbClr val="000000"/>
                </a:solidFill>
                <a:uFillTx/>
                <a:latin typeface="Arial"/>
              </a:rPr>
              <a:t>Журнал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одного студента з однієї дисциплін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По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мер студ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мер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пропусків з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заборгованостей з модул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зарахованих модул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перескладань ісп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заборгованостей з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Конструктор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устий жур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ернути кількість пропусків з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ернути кількість заборгованостей з модул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ернути кількість зарахованих модул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ернути кількість пересклад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більшити кількість пропусків (на одиниц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більшити кількість заборгованостей (на одиниц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більшити кількість зарахованих модулів(на одиниц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більшити кількість перескладань (на одиниц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еншити кількість заборгованостей (на одиниц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89000"/>
            <a:ext cx="2881440" cy="64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uk-UA" sz="1200" spc="-1" strike="noStrike" u="sng">
                <a:solidFill>
                  <a:srgbClr val="000000"/>
                </a:solidFill>
                <a:uFillTx/>
                <a:latin typeface="Arial"/>
              </a:rPr>
              <a:t>Пара за розкладом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По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ва дня за розкла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мер пари за розкла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исок тижнів, в які проводиться занятт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ва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ва виду заняття (Л, ЛР або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я викладача, що веде заня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Конструктор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 п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ара із заданим днем, номером пари, назвою дисципліни та іменем викл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ара із заданим днем, номером пари, списком тижнів, назвою дисципліни та іменем викл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відомити про і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я викладача, що веде занятт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відомити про назву дисциплі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відомити про номер пар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значити чи є в списку тижнів тиждень з указаним номер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день проведення на заняття на зад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номер пари, в який провадиться заня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викладача, який проводить заня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назву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280" y="584280"/>
            <a:ext cx="3708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 Дисциплі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По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ва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годин за робочи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явність екзамену, заліку, РГР, курсового проекту, курсової робо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модул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лекцій, лабораторних робіт, практичних занять в кожному модул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годин в одній лекції, одній ЛР, одному П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Ймовірність відвідування заняття(лекції, лабораторної роботи, практичного занятт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, що витрачається в середньому на залік Л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Ймовірність складання заліку з Л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, що витрачається в середньому на захист модульної контрольно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Ймовірність зарахування модульної контрольно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, що витрачається на складання ісп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Ймовірність складання ісп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, що витрачається на захист РГР, курсового проекту, курсової робо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Ймовірність позитивного результату захисту РГР, курсового проекту, курсової робо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0000" y="657360"/>
            <a:ext cx="410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Конструктор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уста дисциплі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сципліна із заданими параметрами (додатковий параметр допустима кількість пропусків розраховується як 2/3 від загальної кількості аудиторних заня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назву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номер за робочи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своїти номер за робочи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лекцію, ЛР, практичне заня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кількість модулів, кількість лекцій, ЛР та практичних занять в модулі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вчання групи студентів на лекці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вчання групи студентів на Л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вчання групи студентів на практичному занят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кладання групою студентів моду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ескладання студентом моду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кладання групою студентів Р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кладання групою студентів курсового проекту (курсової робо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кладання групою студентів ісп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ескладання студентом ісп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ескладання студентом (курсового проекту, курсової робо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Види, типи та форми контролю навчальної діяль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413000"/>
            <a:ext cx="71992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иди контролю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нтроль відвід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нтроль організації і проведення занять (у відповідності до розкладу, до робочої програми дисципліни, до навчального плану спеціальності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нтроль успіш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нтроль якості зн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ипи контролю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кіс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 контрол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хідний контр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іодичний контроль (модульний, рейтинговий, семестровий, підсумковий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бірковий контр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точний контр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1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151920"/>
            <a:ext cx="8785440" cy="7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ількісні показники результатів різних видів контролю навчальної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358920" y="1268280"/>
            <a:ext cx="3025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онтроль відвідування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кількість пропусків занять без поважної причини (одного студента за один навчальний тижден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кількість пропусків занять з поважної причини середня загальна кількість занять студента у навчальному тижн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пропусків занять студента без поважної причин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попусків занять студента з поважної причин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держимое 2"/>
          <p:cNvSpPr/>
          <p:nvPr/>
        </p:nvSpPr>
        <p:spPr>
          <a:xfrm>
            <a:off x="3816360" y="1268280"/>
            <a:ext cx="511164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онтроль організації і проведення занять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кількість занять викладача, що були проведені не за розкладо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кількість занять викладача, що були проведені не відповідно до робочої програми дисциплін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кількість занять викладача, що були проведені не відповідно до навчального плану спеціальності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загальна кількість проведених зан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занять, проведених викладачем не за розкладо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занять, проведених викладачем не за робочою програмою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занять, проведених викладачем не за навчальним планом спеціальност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одержимое 2"/>
          <p:cNvSpPr/>
          <p:nvPr/>
        </p:nvSpPr>
        <p:spPr>
          <a:xfrm>
            <a:off x="719280" y="836640"/>
            <a:ext cx="3852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онтроль успішності навч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ій бал студентів за результатами модульного контролю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ій бал студентів за результатами сесійного контролю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студентів з успішністю навчання „добре” та „відмінно”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студентів із заборгованостям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5184720" y="836640"/>
            <a:ext cx="30592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онтроль якості знан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студентів з успішністю державної атестації „добре” та „відмінно”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студентів, дипломні проекти яких мають впровадження та практичну спрямованіс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студентів, що працюють за спеціальніст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55280" y="1881360"/>
            <a:ext cx="820908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Критерій якості відвід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Критерій якості організації і проведення з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Критерій якості навч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Критерій якості зн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216000" y="549360"/>
            <a:ext cx="87850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кісні показники результатів різних видів контролю навчальної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ритерій якості відвідуванн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44936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середня кількість пропусків занять студента протягом одного навчального тиж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загальна кількість занять студента у навчальному тижні, що визначається робочим пл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К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середня кількість пропусків занять без поважної причини (одного студента за один навчальний тижден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середня кількість пропусків занять з поважної причини (одного студента за один навчальний тижден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загальна кількість занять студента у навчальному тиж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166920" y="1341360"/>
                <a:ext cx="22687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735280" y="3392640"/>
                <a:ext cx="26272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ритерій якості організації і проведення занять ВН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3280" y="310464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кількість занять, що були проведені не за розкла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кількість занять, що були проведені не відповідно до робочої програми дисциплі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кількість занять, що були проведені не відповідно до навчального плану спеціа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загальна кількість проведених за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00360" y="1989000"/>
                <a:ext cx="33480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ритерій якості навч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2168640"/>
            <a:ext cx="83898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едній бал студентів за результатами модульного контрол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едній бал студентів за результатами сесійного контрол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відсоток студентів з успішністю навчання „добре” та „відмінно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відсоток студентів із заборгованост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німально допустиме значення критерію, при якому якість навчання оцінюється як задовільна, розраховується наступним чином: 60+75+20-0=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чення критерію, при якому якість навчання оцінюється як добра, складає: 80+80+40-0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значення критерію якості навчання більше за 200, то якість навчання оцінюється як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дуже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584360" y="1413000"/>
                <a:ext cx="550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ритерій якості зн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1112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е U1 – відсоток студентів з успішністю державної атестації „добре” та „відмінно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–відсоток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удентів, дипломні проекти яких мають впровадження та практичну спрямова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U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 – відсоток студентів, що працюють за спеціальніст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79640" y="1628640"/>
                <a:ext cx="4680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15:25:34Z</dcterms:created>
  <dc:creator>Инна</dc:creator>
  <dc:description/>
  <dc:language>en-US</dc:language>
  <cp:lastModifiedBy>Дифучин Ю Н</cp:lastModifiedBy>
  <dcterms:modified xsi:type="dcterms:W3CDTF">2009-11-11T18:10:15Z</dcterms:modified>
  <cp:revision>115</cp:revision>
  <dc:subject/>
  <dc:title>ІНФОРМАЦІЙНА ТЕХНОЛОГІЯ ВИЗНАЧЕННЯ ОПТИМАЛЬНИХ ПАРАМЕТРІВ УПРАВЛІННЯ ТРАНСПОРТНИМ РУХОМ ЧЕРЕЗ СВТЛОФОРНІ ОБ’ЄКТИ МІСТА</dc:title>
</cp:coreProperties>
</file>